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2.wmf" ContentType="image/x-wmf"/>
  <Override PartName="/ppt/media/image4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2162-118B-4D68-BD82-34D5FE721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98A1-9428-4E53-AACB-EBC373405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75B7-7B8B-4069-BCBE-53984ECC4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E2CA-5109-41E6-96BA-050DBEC344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7636-E92D-4840-B558-151D2871C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698F-ADE5-4158-ACEA-1DA36ECDD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8495-7F50-4661-99E4-068FA8CAE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319D-D861-487C-BA88-6242D5C53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3734-2546-4350-BCE8-24732E6AD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97B0-E8B8-4FC2-B3CF-F4C01A188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7A12-6221-442C-BA77-C2B6D7EF3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C69E-B412-48D2-AFDE-BD06B6C1B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24852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7A82-CC3F-48B5-A6B7-5FF4A23444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Arial"/>
              </a:rPr>
              <a:t>Settlement functio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1676520" y="3352680"/>
          <a:ext cx="2019240" cy="24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352680"/>
                    <a:ext cx="20192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4356000" y="2276640"/>
            <a:ext cx="4114800" cy="2286000"/>
          </a:xfrm>
          <a:prstGeom prst="cloudCallout">
            <a:avLst>
              <a:gd name="adj1" fmla="val -66203"/>
              <a:gd name="adj2" fmla="val 15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unctions are like parties, ye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5046-ED6E-4C3B-96D5-052AEC2251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3715920"/>
            <a:ext cx="838224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each of t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43640" y="476280"/>
            <a:ext cx="343080" cy="3427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012000" y="981000"/>
            <a:ext cx="546120" cy="5716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5940360" y="1773360"/>
            <a:ext cx="436320" cy="412560"/>
            <a:chOff x="5940360" y="1773360"/>
            <a:chExt cx="436320" cy="412560"/>
          </a:xfrm>
        </p:grpSpPr>
        <p:sp>
          <p:nvSpPr>
            <p:cNvPr id="72" name="Gear"/>
            <p:cNvSpPr/>
            <p:nvPr/>
          </p:nvSpPr>
          <p:spPr>
            <a:xfrm>
              <a:off x="6182280" y="1773360"/>
              <a:ext cx="194400" cy="189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0360" y="1851120"/>
              <a:ext cx="232560" cy="22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1200" y="1934640"/>
              <a:ext cx="258480" cy="251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012000" y="2421000"/>
            <a:ext cx="571320" cy="799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020000" y="476280"/>
            <a:ext cx="1600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N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1052640"/>
            <a:ext cx="148572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1844640"/>
            <a:ext cx="21178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2637000"/>
            <a:ext cx="135576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755640" y="404640"/>
            <a:ext cx="4968720" cy="279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367E-1B1E-46AE-92F9-A2B5CC3E0D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Market Tow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ket Towns tend to have the following featur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 in a fertile farming are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services e.g. shops and offic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transport links - often they are route centr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may be at the site of important bridges. Often mills were built on the riv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 places in the town centre; Markets may no longer be held 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2867-F8A6-43A1-8E60-8C96694C0B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A model of a market tow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26920" y="1395360"/>
            <a:ext cx="7321680" cy="51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DFB8-FA4E-423F-9189-37E22F48D0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A map of Kelso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86" name="" descr="Kelso Map (41 kb)"/>
          <p:cNvPicPr/>
          <p:nvPr/>
        </p:nvPicPr>
        <p:blipFill>
          <a:blip r:embed="rId1"/>
          <a:stretch/>
        </p:blipFill>
        <p:spPr>
          <a:xfrm>
            <a:off x="1187280" y="1844640"/>
            <a:ext cx="7000920" cy="309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EE61-91CC-4B00-AF1B-F10072568E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475920"/>
            <a:ext cx="838224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ample of a market town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ls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Scottish Borders, which is shown on the map below . It is similar to the model as it is a bridging point over a river, is in a farming areas and has good transport link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different to the model as it does not have a railway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6BE8-4A52-4D65-820B-48C96A259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Port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s tend to have the following featur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nd where there are sheltered harbou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t land for building on nearb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rn ports need deeper water for today's larger ship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ports have gone through a lot of redevelopme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argest ports are found where there is a major industrial area inland that needed a place to import and export its goo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E9BA-92F8-408F-A9C0-46CDF00CBB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A model of a port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920000" cy="412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0405-2D3F-4858-B157-CE97338B17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764640"/>
            <a:ext cx="838224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ample of a port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verpoo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north-west of England, which is shown on the map below . It is similar to the model as it is has a sheltered harbour, is built on flat land, and the newer docks are found downstrea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different from the model as Liverpool is only built on one side of the River Mers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1FA0-B75B-4339-A9B7-C9FD9DDACA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Liverpool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16000" y="1265400"/>
            <a:ext cx="6912000" cy="526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8917-5295-45F1-B87F-211B55846D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Industrial tow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Old" Industrial Towns tend to have the following featur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 on or near coalfield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railways and canals for transpor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housing and industry mixed in togeth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wer industry is found on the outskirts, near main roads for transpor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newer industrial towns planning ensures the housing and industry are located apar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DA20-4EBE-4998-B1C5-179A6E8AE6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a2266"/>
                </a:solidFill>
                <a:uFillTx/>
                <a:latin typeface="Comic Sans MS"/>
              </a:rPr>
              <a:t>FUNCTION INTRODUCT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week, we talked about the kinds of reasons that towns and villages WERE sited and situated and also the settlement sha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eek we are going to look at the purposes or functions they fulfil 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erent settlements have different functions (e.g. resort, port, market town, industrial town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5811840"/>
            <a:ext cx="2016000" cy="891000"/>
          </a:xfrm>
          <a:prstGeom prst="wedgeRoundRectCallout">
            <a:avLst>
              <a:gd name="adj1" fmla="val -95898"/>
              <a:gd name="adj2" fmla="val -65912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es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EF10-6CF1-45E4-B1F3-871EA02CF2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345440" cy="395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0621-7FC0-4CC1-AC69-8F494F41C9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Barnsley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rnsle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in Yorkshire, Engla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imilar to the model as it is built on a coalfield and has can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different from the model as it has good motorway lin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A8C6-B2D7-4F34-9CBE-60247230A3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Barnsley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05672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7B52-C52E-4A78-93E3-F5D39E32CE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2266"/>
                </a:solidFill>
                <a:latin typeface="Comic Sans MS"/>
              </a:rPr>
              <a:t>Besides ports, resorts,  market towns or industrial towns</a:t>
            </a:r>
            <a:endParaRPr b="0" lang="en-US" sz="40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other functions can you think of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192B-D41B-4D59-9C1F-45C8A1EB50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67920"/>
            <a:ext cx="838224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dential – a major function of many settlements is to give people a place to liv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some places, this is the main function, as there are few services and no industr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se are known as dormitory towns or commuter tow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?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other sort of residential function is one that concentrates on serving retires peo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Frinton near Lond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parts of Florida in America – these places will have services but those needed particularly by the elder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76B5-0DE1-40CA-9BFC-587CCB98ED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ministrative  - such as county towns that employ a large number of people as civil servants and are centres of local gover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, where is your local government cent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B45B-F96F-4AB7-8A70-D4C2F5820C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ercial or retail – shopping centres and recreation facilities, such as sports centres and cinemas, provide services for peopl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usually have good transport links so that people come from the surrounding districts to use the facili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is there a commercial centre near yo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CF02-3951-4ABB-950A-7B5082B7F5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ices – such as schools, universities, regional hospitals and libraries, such as Oxfo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rism –  we have mentioned seaside resorts already. But there are others types of tourist settlement. Many settlements in National Park also have a tourist function. Also major cities such as London and Paris also fulfil a tourist fun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think of tourist centres near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C4BB-694E-4B52-AE0B-2D9558AB5C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 chang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8631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tail change: town centres decline as supermarkets and larger shops move out of town to retail par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s in planning policy –’brown field sites’ such as old abandoned industrial areas are being redeveloped for housing and leis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 Docklands in Lond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53CE-AEE4-4B36-8C39-6C5C71AD41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 chang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8631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 change – for example more people can afford to go abroad so typical seaside resorts like Blackpool and Morecombe have decli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shing villages in Spain have become tourist resorts inst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other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32DF-67EF-4344-A339-6BEF902251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2266"/>
                </a:solidFill>
                <a:latin typeface="Comic Sans MS"/>
              </a:rPr>
              <a:t>What kind of town does she live in?</a:t>
            </a:r>
            <a:endParaRPr b="0" lang="en-US" sz="36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4105440" cy="340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19640" y="2060640"/>
            <a:ext cx="2881440" cy="2089080"/>
          </a:xfrm>
          <a:prstGeom prst="wedgeRoundRectCallout">
            <a:avLst>
              <a:gd name="adj1" fmla="val -91763"/>
              <a:gd name="adj2" fmla="val 1527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a _____ town. My husband runs a farm. This is where we come to buy and sell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5661000"/>
            <a:ext cx="8497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USTRIAL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T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RT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4A0C-6CEE-45D8-8D05-A2DA99161F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know places that have different main func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think of indicators that show that you choice of main function is reasonab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to think of 4 – but if you are stuck, 3 will be fin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3D15-EC94-42F5-900C-FE3B78E3FC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2266"/>
                </a:solidFill>
                <a:latin typeface="Comic Sans MS"/>
              </a:rPr>
              <a:t>What kind of town does he live in?</a:t>
            </a:r>
            <a:endParaRPr b="0" lang="en-US" sz="36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1557360"/>
            <a:ext cx="2881080" cy="2089080"/>
          </a:xfrm>
          <a:prstGeom prst="wedgeRoundRectCallout">
            <a:avLst>
              <a:gd name="adj1" fmla="val 74847"/>
              <a:gd name="adj2" fmla="val 501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an __________ town. I use things produced from farmers to make other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8497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USTRIAL  PORT   HOLIDAY RESORT  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03640" y="1860480"/>
            <a:ext cx="3384720" cy="242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5BC8-A9A0-4465-AA85-028C015C7A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2266"/>
                </a:solidFill>
                <a:latin typeface="Comic Sans MS"/>
              </a:rPr>
              <a:t>What kind of town does he live in?</a:t>
            </a:r>
            <a:endParaRPr b="0" lang="en-US" sz="36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1557360"/>
            <a:ext cx="3673440" cy="2089080"/>
          </a:xfrm>
          <a:prstGeom prst="wedgeRoundRectCallout">
            <a:avLst>
              <a:gd name="adj1" fmla="val -82759"/>
              <a:gd name="adj2" fmla="val 1337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a ______. This is where people and goods leave our country and arrive from other plac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8497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USTRIAL  HOLIDAY RESORT   MARKET   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3384720" cy="20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FC0C-4C8A-47B7-9A7B-105F89C568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2266"/>
                </a:solidFill>
                <a:latin typeface="Comic Sans MS"/>
              </a:rPr>
              <a:t>What kind of town does he live in?</a:t>
            </a:r>
            <a:endParaRPr b="0" lang="en-US" sz="36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557360"/>
            <a:ext cx="3673440" cy="2089080"/>
          </a:xfrm>
          <a:prstGeom prst="wedgeRoundRectCallout">
            <a:avLst>
              <a:gd name="adj1" fmla="val -82759"/>
              <a:gd name="adj2" fmla="val 1337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a __________. This is where people come from other places to relax and enjo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8497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USTRIAL  HOLIDAY RESORT   MARKET   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823840" cy="19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68F6-2FE7-42CE-AD38-E47907C2DC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2266"/>
                </a:solidFill>
                <a:latin typeface="Comic Sans MS"/>
              </a:rPr>
              <a:t>Where are we mostly likely to find these?</a:t>
            </a:r>
            <a:endParaRPr b="0" lang="en-US" sz="40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12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FA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AL M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 port, an industrial town, a market town or tourist resort? (the answer maybe all of them!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9959-475C-426B-9216-A39BEC5352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259920"/>
            <a:ext cx="838224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ave already learnt that we find certain types of buildings along with certain types of func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 factories are found in industrial settlement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can say that a factory is 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DICAT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n industrial settl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ION – INDICATOR – a person or object that shows us the function of a settlem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F00E-AE35-42DB-BDE9-2E51337177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2266"/>
                </a:solidFill>
                <a:latin typeface="Comic Sans MS"/>
              </a:rPr>
              <a:t>What kind of things would be indicators of these settlement function types?</a:t>
            </a:r>
            <a:endParaRPr b="0" lang="en-US" sz="40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844640"/>
            <a:ext cx="838224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HOPS, FARMERS, TRADERS, PRODUCE, TRANS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indicators of a market town fun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ould be indicators o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dustrial t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ourist resor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EF72-DA95-4855-BA99-EA248A80CB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6:00:47Z</dcterms:created>
  <dc:creator>PC USER</dc:creator>
  <dc:description/>
  <dc:language>en-US</dc:language>
  <cp:lastModifiedBy>Lindy</cp:lastModifiedBy>
  <dcterms:modified xsi:type="dcterms:W3CDTF">2008-11-06T22:09:48Z</dcterms:modified>
  <cp:revision>6</cp:revision>
  <dc:subject/>
  <dc:title>Settlement functions</dc:title>
</cp:coreProperties>
</file>